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DEA-E65F-412F-B3B1-F4730DAB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707-5EF5-428E-813A-5D9510C1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E11-413E-45ED-B6AE-56CFD49C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7C9-6EBC-4B7F-AB7C-29F68710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7B0CB-CC25-4620-9897-777A4000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62D83-88F2-4F02-B088-9AA24F8B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6D692-D622-42A1-9F90-36684351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D1B87-EA2E-47F7-9DB7-84B94DA8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A31CA-1B4C-40A3-B7A8-B534E34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34032-F9D0-4439-9295-47F3DF02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AB8B2-7E17-4937-AB3A-313D040F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E52-B678-471E-91A8-DB2C5F26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D4AAE-21B1-496C-8C10-61458FFE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95142-DCE4-46F0-AC13-E5704EE2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D2A64-AB5D-4908-80BC-6BDDE7AC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FC0F7-EEAD-43FA-8F6C-2F5CD015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9303D-4F3B-4220-8DBD-DB6E0D49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D41-03A9-4B1D-B301-5BCAACE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6C0-C7D0-4159-B2ED-A3CC96B4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830-1FED-4E93-8F33-3A7CA93D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89E-A84A-4DF1-843D-EB7B07A3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DD9-27B5-417A-B5D2-05CE888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366-67B8-4196-8418-9E5F6F50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88F-9178-41B9-B825-33E28E8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3A8F-065C-4284-8DA4-CFFC3B7721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252D-0114-4FF1-A3A4-8630CF6708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uch.ru/referat/12433.html" TargetMode="External"/><Relationship Id="rId2" Type="http://schemas.openxmlformats.org/officeDocument/2006/relationships/hyperlink" Target="http://www.neuch.ru/referat/12433.html" TargetMode="External"/><Relationship Id="rId3" Type="http://schemas.openxmlformats.org/officeDocument/2006/relationships/hyperlink" Target="http://www.neuch.ru/referat/12433.html" TargetMode="External"/><Relationship Id="rId4" Type="http://schemas.openxmlformats.org/officeDocument/2006/relationships/hyperlink" Target="http://www.neuch.ru/referat/12433.html" TargetMode="External"/><Relationship Id="rId5" Type="http://schemas.openxmlformats.org/officeDocument/2006/relationships/hyperlink" Target="http://www.neuch.ru/referat/12433.html" TargetMode="External"/><Relationship Id="rId6" Type="http://schemas.openxmlformats.org/officeDocument/2006/relationships/hyperlink" Target="http://www.neuch.ru/referat/12433.html" TargetMode="External"/><Relationship Id="rId7" Type="http://schemas.openxmlformats.org/officeDocument/2006/relationships/hyperlink" Target="http://smallbay.ru/architec011.html" TargetMode="External"/><Relationship Id="rId8" Type="http://schemas.openxmlformats.org/officeDocument/2006/relationships/hyperlink" Target="http://smallbay.ru/architec011.html" TargetMode="External"/><Relationship Id="rId9" Type="http://schemas.openxmlformats.org/officeDocument/2006/relationships/hyperlink" Target="http://smallbay.ru/architec011.html" TargetMode="External"/><Relationship Id="rId10" Type="http://schemas.openxmlformats.org/officeDocument/2006/relationships/hyperlink" Target="http://smallbay.ru/architec011.html" TargetMode="External"/><Relationship Id="rId11" Type="http://schemas.openxmlformats.org/officeDocument/2006/relationships/hyperlink" Target="http://www.bestreferat.ru/referat-43924.html" TargetMode="External"/><Relationship Id="rId12" Type="http://schemas.openxmlformats.org/officeDocument/2006/relationships/hyperlink" Target="http://www.bestreferat.ru/referat-43924.html" TargetMode="External"/><Relationship Id="rId13" Type="http://schemas.openxmlformats.org/officeDocument/2006/relationships/hyperlink" Target="http://www.bestreferat.ru/referat-43924.html" TargetMode="External"/><Relationship Id="rId14" Type="http://schemas.openxmlformats.org/officeDocument/2006/relationships/hyperlink" Target="http://www.bestreferat.ru/referat-43924.html" TargetMode="External"/><Relationship Id="rId15" Type="http://schemas.openxmlformats.org/officeDocument/2006/relationships/hyperlink" Target="http://www.artprojekt.ru/Architecture/Ancient/Egypt.html" TargetMode="External"/><Relationship Id="rId16" Type="http://schemas.openxmlformats.org/officeDocument/2006/relationships/hyperlink" Target="http://www.artprojekt.ru/Architecture/Ancient/Egypt.html" TargetMode="Externa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6094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Times New Roman"/>
              </a:rPr>
              <a:t>Архитектура Древнего Египт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1814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История, 6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Представление результатов проек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752480"/>
            <a:ext cx="7315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Презен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Букле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Фотоотч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Сочи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* Филь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609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Информационные ресурс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905120"/>
            <a:ext cx="79250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www.neuch.ru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referat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/12433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http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://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smallbay.ru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/architec011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1"/>
              </a:rPr>
              <a:t>http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2"/>
              </a:rPr>
              <a:t>://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3"/>
              </a:rPr>
              <a:t>www.bestreferat.ru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4"/>
              </a:rPr>
              <a:t>/referat-43924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5"/>
              </a:rPr>
              <a:t>http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6"/>
              </a:rPr>
              <a:t>://www.artprojekt.ru/Architecture/Ancient/Egypt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Автор проек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133720"/>
            <a:ext cx="6476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Студентка 4 курс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Филологического факульте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341 групп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Селиванова Надеж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6002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00"/>
                </a:solidFill>
                <a:latin typeface="Times New Roman"/>
              </a:rPr>
              <a:t>Спасибо за внимание!!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6094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Почему не угасает интерес к культурному наследию Древнего Египта в наши дн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6480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762120"/>
            <a:ext cx="80010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Проблемные вопрос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Как зародилась древнеегипетская архитекту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Почему египетские пирамиды входят в одно из семи чудес све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685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Частные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9984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Какие периоды развития были присущи  древнеегипетской культур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894760"/>
            <a:ext cx="80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Как велось строительство пирамид и храм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021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С какой целью строились пирамиды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0284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* Какой смысл вкладывался в изображения скульптур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6094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В ходе изучения проекта мы познакомимся с такими архитектурными памятниками как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895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* Большой Сфинк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86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*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952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* Хра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 (700x525, 18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Большой Сфинк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1235590893_chudesa_egypt (700x560, 20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609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Пирами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5335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Хра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685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Times New Roman"/>
              </a:rPr>
              <a:t>Продолжительность изучения данного курс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8954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276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Проект рассчитан на 6 ча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1-04-08T20:40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